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A65C-C56F-42B2-B581-C0EFA13D56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BD8E-D9B3-47AD-838D-AB3DA23A3F2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D07E-419C-46BD-BB88-438C1A54601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83B6-31A6-4C42-B334-E31094E2182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9599-2D49-4286-9780-4EB7CBABF50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6141-A224-4881-AC0C-F9F606C0769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CEE6B-A982-4DB2-A086-32F57DA5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CCE63-16BC-495B-BA62-3953E980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6D242-E493-4123-9BAB-F979E79B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2581B-7188-4B07-959E-1F35B55A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1F00B-4CD5-4F3D-A6F5-B33AC137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B7FF4-4D2D-4E39-AFB5-F4A73BEC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3E771-0F6C-4091-873A-6EAA54BC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AAF58-8ACA-4413-9AE8-369988E1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449A1-374F-49E4-A718-EAE9CC6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66411-660D-41D0-BE6E-3108EB56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9FFBB-E593-4958-A254-8BC55438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F55B5-5F8F-4237-BC5F-EF7357C3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27068-9DAC-4DC7-A010-5FF5CAB5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8CDFB-6458-40A0-BA02-E6148179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618B4-14C1-48A0-BCF2-DBB9C5DC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FF77A-654F-4231-95DB-B0181A3A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0EF0D-5E94-4B5E-A456-F803684D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005F8-4C28-450F-8FDF-DF1D8E1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0B4F8-F8B6-4083-A067-DEA463C6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3F2F9-4A54-43D4-B805-015CAE7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E2CB6-98AE-41EC-B7A1-CC5141B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7227D-5195-49D1-9871-6670EA68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F2563-E35E-4D44-84F0-300ABFE6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128DA-1914-4FC3-8687-6FD15E22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0E4A-EB0E-41DF-8403-D39A5970213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20E-1D40-42E6-8E6E-E6F8728FE91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3118-9743-4E70-BBE3-C32CA57B4AF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2FDA-3928-4910-AC7B-7439FD92341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8646-62AB-488B-9988-0E0FE56CEDA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3387-ABFD-4E46-9CEF-98FEBDC156F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3572-AA80-4D90-98F9-ED859DFA977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7B40-891E-40AD-915E-3FB32C2AB6D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08000" y="0"/>
            <a:ext cx="9036000" cy="6477840"/>
            <a:chOff x="108000" y="0"/>
            <a:chExt cx="9036000" cy="6477840"/>
          </a:xfrm>
        </p:grpSpPr>
        <p:pic>
          <p:nvPicPr>
            <p:cNvPr id="521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956720" y="0"/>
              <a:ext cx="1187280" cy="107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" name="그룹 1"/>
            <p:cNvGrpSpPr/>
            <p:nvPr/>
          </p:nvGrpSpPr>
          <p:grpSpPr>
            <a:xfrm>
              <a:off x="108000" y="333360"/>
              <a:ext cx="9001080" cy="6144480"/>
              <a:chOff x="108000" y="333360"/>
              <a:chExt cx="9001080" cy="6144480"/>
            </a:xfrm>
          </p:grpSpPr>
          <p:sp>
            <p:nvSpPr>
              <p:cNvPr id="523" name="AutoShape 2"/>
              <p:cNvSpPr/>
              <p:nvPr/>
            </p:nvSpPr>
            <p:spPr>
              <a:xfrm>
                <a:off x="108000" y="980640"/>
                <a:ext cx="8855640" cy="546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AutoShape 4"/>
              <p:cNvSpPr/>
              <p:nvPr/>
            </p:nvSpPr>
            <p:spPr>
              <a:xfrm>
                <a:off x="285480" y="33336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Text Box 6"/>
              <p:cNvSpPr/>
              <p:nvPr/>
            </p:nvSpPr>
            <p:spPr>
              <a:xfrm>
                <a:off x="180720" y="1196640"/>
                <a:ext cx="8928360" cy="528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 속도가 도시보다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에는 세종 제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지역이 초고령사회에 진입 예상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지자체의 재정자립도   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고 지역노인복지체계의 한계로 인해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노인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.3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가구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4.2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966160" cy="6215400"/>
              <a:chOff x="142920" y="142560"/>
              <a:chExt cx="896616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0560" y="1149120"/>
                <a:ext cx="8858520" cy="47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 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과 정책당국은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도적으로 눈을 감아 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 가중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920"/>
              <a:chOff x="142560" y="1785960"/>
              <a:chExt cx="8929800" cy="47149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49120"/>
            <a:ext cx="8966160" cy="6357960"/>
            <a:chOff x="0" y="249120"/>
            <a:chExt cx="896616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695920"/>
              <a:ext cx="235728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07280" y="249120"/>
              <a:ext cx="8858880" cy="5447520"/>
              <a:chOff x="107280" y="249120"/>
              <a:chExt cx="8858880" cy="544752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480" y="24912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07280" y="1033560"/>
                <a:ext cx="8858520" cy="466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107640" y="1160280"/>
                <a:ext cx="885852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게놈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nom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42920" y="0"/>
            <a:ext cx="8858160" cy="6429240"/>
            <a:chOff x="142920" y="0"/>
            <a:chExt cx="8858160" cy="642924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42920" y="3170160"/>
              <a:ext cx="8858160" cy="3259080"/>
              <a:chOff x="142920" y="3170160"/>
              <a:chExt cx="8858160" cy="325908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42920" y="3539880"/>
                <a:ext cx="88203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change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생활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 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 기능과 사회적 역할 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.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 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 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r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480" y="142560"/>
              <a:ext cx="72867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3280" y="13186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 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.9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도상국 빠른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남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3280" y="42670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 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34920" y="71280"/>
            <a:ext cx="9144000" cy="6286680"/>
            <a:chOff x="34920" y="71280"/>
            <a:chExt cx="914400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0560" y="71280"/>
              <a:ext cx="8999640" cy="1847880"/>
              <a:chOff x="70560" y="71280"/>
              <a:chExt cx="899964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0560" y="642960"/>
                <a:ext cx="899964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120" y="71280"/>
                <a:ext cx="36003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82216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.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34920" y="2131920"/>
              <a:ext cx="9144000" cy="4226040"/>
              <a:chOff x="34920" y="2131920"/>
              <a:chExt cx="914400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056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34920" y="2922480"/>
                <a:ext cx="914400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305.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5.5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41.9%)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43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pic>
          <p:nvPicPr>
            <p:cNvPr id="515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6" name="그룹 1"/>
            <p:cNvGrpSpPr/>
            <p:nvPr/>
          </p:nvGrpSpPr>
          <p:grpSpPr>
            <a:xfrm>
              <a:off x="181080" y="214200"/>
              <a:ext cx="8820000" cy="4606920"/>
              <a:chOff x="181080" y="214200"/>
              <a:chExt cx="8820000" cy="460692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181080" y="928440"/>
                <a:ext cx="8820000" cy="3880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288720" y="1000080"/>
                <a:ext cx="8640720" cy="38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*100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6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9.8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6.0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지는 부양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전현상 발생으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우선순위 결정 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5:01Z</dcterms:modified>
  <cp:revision>21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